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5BC5-EBA7-4D3D-A830-C304076E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1602-5603-4817-93B0-E2C2E384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A651-9529-4E41-92A4-6D2605731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15E0-F04B-44EE-B81A-AA5BC7FD1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47D2-1DAF-48D8-A776-01F7C61F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5C60-5334-476D-928B-7E89FA1A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CC96-E5FE-4F7C-B568-6B1148E3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17E4-89A4-482C-B55A-8853A252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9E23-C2F3-4312-9F09-682C2977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8FA4-3E87-4DE8-ACD3-B2E77D3C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D934-88F2-45C8-902A-4AE04AC4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81FE-9516-411F-B33B-95B92537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30C3-4DD0-42A1-B9D1-9F17FC78777B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15 Na teba, drahý Otče ná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teba, drahý Otče ná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rak upierame svo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kajúcnikov prijíma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m hriechy naše odpúšťa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/:vieš stíšiť nepokoj.: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áš liek na rany, boles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 naše blaho dbáš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vzývame ťa v úzkos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s vytrhuješ z ťažkost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/: ty s nami súcit máš.: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ez teby slabí, biedni s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áč zmocniť, Pane ná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tvoju tvár vždy hľadám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za tebou len kráča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/: tvoj počujeme hlas.: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s zvlažuj rosou milos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sŕdc nám vďačnosť vle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j ducha znášanlivos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i pravej obetavos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/: a lásky úprimnej.:/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3T19:17:07Z</dcterms:modified>
  <cp:revision>18</cp:revision>
  <dc:subject/>
  <dc:title>Je veľký náš Pán, on slávy je Kráľ Nech do všetkých strán  spev vrúcnych znie chvál.</dc:title>
</cp:coreProperties>
</file>